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D15-BABE-4A1F-8C13-CC13A52A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9A8-4EB0-483E-ABF4-D9ED0EED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F6B-FB8E-4B4D-BFDA-7D91ED42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587-5D66-4B65-8466-144C4895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2F6A-FD68-4E02-9BEF-742E5491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1C89-C471-48A8-B9BF-6A7F246F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DA6-68F2-4033-AE13-1A58E611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43C-59DD-4BE0-B246-A5F06A4B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484-1BFA-462B-890D-F0E472A3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F726-F36E-4461-BB7B-338111E4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067-8C1D-42D0-B601-19E14245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5FCB-4718-4572-87A8-2647ADFF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8523-E7C2-4E0F-9FF6-CB2A91E74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360" y="22035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360" y="42195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140360" y="37879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88000" y="3427560"/>
            <a:ext cx="28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932360" y="133956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003480" y="3139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4960" y="289548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874960" y="289548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4960" y="28954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74960" y="33987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2565360"/>
            <a:ext cx="144360" cy="144360"/>
          </a:xfrm>
          <a:prstGeom prst="ellipse">
            <a:avLst/>
          </a:prstGeom>
          <a:solidFill>
            <a:srgbClr val="eb34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1628640"/>
            <a:ext cx="144360" cy="144720"/>
          </a:xfrm>
          <a:prstGeom prst="ellipse">
            <a:avLst/>
          </a:prstGeom>
          <a:solidFill>
            <a:srgbClr val="eb34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42:17Z</dcterms:created>
  <dc:creator>Carlos Torres</dc:creator>
  <dc:description/>
  <dc:language>en-US</dc:language>
  <cp:lastModifiedBy>Carlos Torres</cp:lastModifiedBy>
  <dcterms:modified xsi:type="dcterms:W3CDTF">2007-07-09T15:42:44Z</dcterms:modified>
  <cp:revision>1</cp:revision>
  <dc:subject/>
  <dc:title>Diapositiva 1</dc:title>
</cp:coreProperties>
</file>